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9.jpeg" ContentType="image/jpeg"/>
  <Override PartName="/ppt/media/image17.gif" ContentType="image/gif"/>
  <Override PartName="/ppt/media/image2.jpeg" ContentType="image/jpeg"/>
  <Override PartName="/ppt/media/image16.gif" ContentType="image/gif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23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9529-6EB7-4465-BD06-DCBABA2EC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FE24-4055-4177-96A9-7355AA3A9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25872A-87AA-42B7-A8E8-90197AB87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1AD788-9D74-4C43-AC83-0B49B807E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311B5E-81FA-40CE-B69D-A97A2B48E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2053DE-7CE3-421F-9F1C-3B8DDD918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16CB2E-5741-4F56-ADBF-1C57E0674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0BE378-D1B0-4C1E-8ACB-5383698DF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142D75-BC23-4488-A18B-AF5376E0F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BF9B10-4D94-4CE9-B11E-401C42D17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D4C3D2-7A42-49F6-A755-8C84DBF34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83D123-99A4-48FA-9B1A-60D0A8231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9818-3C87-444A-B59E-EBEA26F0D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4EFAA1-3215-43B0-8B3E-520B65D21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85781B-DF23-4288-ACE1-4BE68259E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5A85A4-574E-4663-AF5F-BAD24322A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EE4114-C86B-486D-817C-A8208C66A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22582B-1CB2-4F43-AF29-584E56874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16244B-5AB9-4758-B574-3E46145A2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D7E410-05F1-4BEE-953A-62BC4F115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2E28EF-C2F6-42B9-90D3-DA59CF765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3DD1EC-F298-4051-B101-B86328FB7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84C6A8-2F73-4D74-9E01-0A17CE453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D780-6082-4B53-A884-1E2CF4BCB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94F09B-DA2B-42B6-875B-27F47C745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F37DB4-A8EB-4BD4-BE19-34BEEBE31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912CED-268E-442F-B4E4-D1F625667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200D4D-4D35-4E70-B6A2-EBD4C0178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7CD7BF-8C8D-4ABE-ACC0-59FBA2A2E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D55729-1023-417E-A0B2-7B9437A44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E143EB-B332-4B9E-892E-FD925AC2E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CA4459-92C9-44A0-96F9-69983E8F8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F313E9-517A-41D9-A682-EE0479313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D2BA6F-8E02-44E7-B25D-3828A6D59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47863-0168-4C45-B143-EF8D81AD0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3E21F8-0DEF-470A-984A-280976874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54C766-5BE6-4D6E-A65D-916A567AB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009D58-7394-4CAB-8B66-CCB668D3C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D2A698-B6A2-4251-B876-AD762E1F6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B34384-A65B-4CCC-8D28-F1B842A90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189E43-AA53-4A29-AC0D-F9E184D77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AD9BC3-43E7-4714-B883-3693DDABA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07764B-A9D4-4C74-901C-9D9AD5B56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264B7C-997A-4256-9A96-8B5074212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78788F-4D00-4C5A-BC1D-1A85B60B1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08A22-A6E9-42DE-956B-D35309552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15D3AF-FE9B-4886-A1E8-BF263721F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DCF80C-6CC2-464B-BAE8-0F7E5A31D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AFD76E-1FDC-4DE3-99DC-273A604C3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EF0BE4-12EF-41B3-96BD-155F3A370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51D30E-0001-46AF-BB6A-2EB3FAB01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D8C3F-846F-44F7-B9EF-E50DAD0FD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AE91B-EC66-470A-A904-7511D3999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854D0-740F-4318-9D09-B0F8390CA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E881B-0F61-4546-BFFA-60BF1760E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94DCF-A3FD-4B72-A121-54C3514F5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BC9F-D3FE-452F-A699-4FEEDF247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CF98A-4B12-4351-9132-B2A66163E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B936F-AF3D-45DF-BA84-10918965A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9F072-72C7-4056-8A16-34E68AA40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91971-1729-400F-8F63-FB7F40E49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8D5B3-B214-4984-9030-9F0956DF6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38F76F-42E0-48D4-A0A8-A36D0B18E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4298A6-87FA-4486-AE4F-582110D21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335726-E3D1-481E-A408-8161CF3FB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A6C127-6D60-4B27-97BB-2E50002F8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2DFD6C-DE62-4FFB-8B76-FDECC68F7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3A13-A994-44A2-9DED-F3A6C896C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1FB742-F1DD-435D-ADC3-1C41CED45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A8040D-F774-47BA-8C05-73CA93F33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9C778F-CE6B-4F52-B1EA-A12D8F8BE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104318-0E87-48B1-B925-EBA2B3080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066029-6B30-4030-BE32-E20E78960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2C1270-A4A4-4D82-9049-621768FF2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499538-CB07-4C55-9E87-1BE304E99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86F524-B68A-4A8F-B866-981BDBAEF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45055B-737F-4FE5-B293-2C2082FC3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897AF8-58A4-40C6-935B-70FEA81E5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7C2B-974D-4063-9BA0-21B2C61BE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EC5F82-4592-47D3-B59E-DAE3C885E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0CE68B-408C-41B3-8C89-984F3729A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C06134-60E6-4226-A4F7-41AC43713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CDFB59-8351-4D5A-BC69-687867B4D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055653-80AF-4602-9C0B-FFC832ED3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978F8C-8B2D-4904-AAB4-FADDBA764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A7AC21-3533-472D-BB54-715A1A2DF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CA7317-C15F-4D9A-9916-0DD18EFAF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D6BB77-CCFC-49C1-B924-020805284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61A3DD-F329-4A09-8C2C-4378371A0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493C-B511-40A5-A773-AB2BC5A59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1A5AC9-5104-4AC5-B828-903ECCF5D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6EEBE6-24A2-48E3-8381-72FA7B998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CEBCDD-B1F6-4B36-B2C4-EE0C0BA84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2962E9-5909-4F9B-B850-565E71043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6F3C10-0BD8-4766-860C-6ACEA0C9D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C290C2-12B3-4EC8-B4D9-D91DB5E8F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5DE551-C947-4441-911D-F4522062C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CA4EE7-6D1F-4882-8FDF-439D8BCFE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3E7DB5-B6CF-4D78-8148-DEBEA019E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5D768F-55E8-4FAD-98D6-8B62E3311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92E4-4DEF-4112-A47F-9214A3526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0F2BC3-C020-4A3F-9E7C-57AB42FEC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D7B1A5-36A8-4402-B261-F9210F9D3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F0BB92-1347-44C3-8A79-6FDF3B1C9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371726-24A7-471E-BA80-1D2BC92EC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3F0BF3-E8E9-4339-B0B6-76DE6ED78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6A8F63-C614-4B82-A937-0594A2ABA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6CD778-4626-4C0F-A09F-FDB432080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EA86D7-478B-4769-B999-D42A0AC18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AEC583-56C4-4AB2-8A4B-C9DD1125F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F27277-F3C2-4A0F-8557-260B859C5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5213-B956-4C6B-9FD1-AE0AD8D52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0B7377-D6E7-4ADA-B420-90927553E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6927E9-91D9-439D-939D-A88395583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6854C5-9431-4B68-AC4C-76D06BF71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85F922-5441-4F73-B9D9-56687F668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A3DCEA-52BA-48C6-AF50-571F449D9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AED6C2-ECC8-46B5-8C5D-0F7E0127C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083441-B59C-4AFD-9994-590354AFA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52B1C1-50E0-40C9-AFE5-AC9BECC09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FFEDBD-CCED-43C4-B048-4E7363FAF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383DF4-F5D7-459C-8B18-076BB93C7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4826-8446-43CC-B1EE-9D0F5B91B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7F287A-5AA1-4C9B-BA3C-18D962F79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29A069-CE5F-45AF-B9D3-3DEDCC076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25147C-4394-419A-81AF-5654B8B0E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CBAEBC-7CD1-46A3-B1C1-95B48266B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5FBDDD-CF55-4A98-8EDA-DDEE5CD42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35616C-6A68-49B7-B3CB-5CBFDFFB7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BEDC05-6B97-4F72-A0D4-1F4CDFBF0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3D3918-F389-4CFB-9E08-042D6B75C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BAC611-D6EA-41BC-9D69-A116D722C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FDE8C6-040A-4721-89C3-DF161B50C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CAF7-8473-43E5-97A7-E224CFBF4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BF252F-E19F-4EE1-9AAB-122758560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BA6774-75AB-42B1-9009-46CDCB292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453390-5C2F-499C-A4D2-5DAE9D750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D408BD-B445-4C23-B161-3DF4E5047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5246BA-4582-480B-8CC3-CD2523700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D30CE6-80A0-47F1-9A94-58415273E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1A6327-0637-4E58-9128-158BBA4E6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F29FF4-1C02-479C-BBE7-1590E162E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0D05DF-6041-4E33-89DF-D05E436BB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726B09-EA4D-42AE-900B-DF5478BCE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7585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67586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67587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椭圆 67588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椭圆 67589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椭圆 67590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椭圆 67591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00DEB-4813-4A4C-926E-BCD1F1CB34E7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541FA-20B3-487F-97EA-D531772ABD22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83E0C-0A91-405F-9272-BCA8F2000B9C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AE034-66B5-45B0-8202-0B7BB627BC20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组合 68609"/>
          <p:cNvGrpSpPr/>
          <p:nvPr/>
        </p:nvGrpSpPr>
        <p:grpSpPr>
          <a:xfrm>
            <a:off x="1658520" y="1600200"/>
            <a:ext cx="6837840" cy="3200400"/>
            <a:chOff x="1658520" y="1600200"/>
            <a:chExt cx="6837840" cy="3200400"/>
          </a:xfrm>
        </p:grpSpPr>
        <p:sp>
          <p:nvSpPr>
            <p:cNvPr id="49" name="椭圆 68610"/>
            <p:cNvSpPr/>
            <p:nvPr/>
          </p:nvSpPr>
          <p:spPr>
            <a:xfrm flipH="1">
              <a:off x="697212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椭圆 68611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椭圆 68612"/>
            <p:cNvSpPr/>
            <p:nvPr/>
          </p:nvSpPr>
          <p:spPr>
            <a:xfrm flipH="1">
              <a:off x="3390120" y="160020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椭圆 68613"/>
            <p:cNvSpPr/>
            <p:nvPr/>
          </p:nvSpPr>
          <p:spPr>
            <a:xfrm flipH="1">
              <a:off x="339012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椭圆 68614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椭圆 68615"/>
            <p:cNvSpPr/>
            <p:nvPr/>
          </p:nvSpPr>
          <p:spPr>
            <a:xfrm flipH="1">
              <a:off x="6972120" y="327672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BB43C-155E-4B87-AFAF-2F94D38E31B1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9DF4A-0000-4B9E-BD8C-D8E5B7CACF67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9D021-3841-4586-B80B-73F4370334A3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6E170-E0F1-40E7-980A-101C4A3740D4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A329B-39B4-4C39-A456-864966AAF967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4E265-77D7-4E93-8B24-01DE1BC12DC3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377A1-9A66-4608-9547-8EEB834D75FB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46ADC-DA55-4F6D-BAC0-A54CB106405D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gif"/><Relationship Id="rId4" Type="http://schemas.openxmlformats.org/officeDocument/2006/relationships/image" Target="../media/image17.gif"/><Relationship Id="rId5" Type="http://schemas.openxmlformats.org/officeDocument/2006/relationships/image" Target="../media/image16.gif"/><Relationship Id="rId6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Text Box 7"/>
          <p:cNvSpPr/>
          <p:nvPr/>
        </p:nvSpPr>
        <p:spPr>
          <a:xfrm>
            <a:off x="936720" y="5084640"/>
            <a:ext cx="8207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矩形 4107"/>
          <p:cNvSpPr txBox="1"/>
          <p:nvPr/>
        </p:nvSpPr>
        <p:spPr>
          <a:xfrm>
            <a:off x="2195640" y="2421000"/>
            <a:ext cx="4392360" cy="158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搭石</a:t>
            </a:r>
            <a:endParaRPr b="1" i="1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楷体_GB2312"/>
              <a:ea typeface="楷体_GB2312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250560" y="404640"/>
            <a:ext cx="87850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每当上工、下工，一</a:t>
            </a:r>
            <a:r>
              <a:rPr b="1" lang="zh-CN" sz="4000" spc="-1" strike="noStrike">
                <a:solidFill>
                  <a:srgbClr val="001a19"/>
                </a:solidFill>
                <a:latin typeface="Arial"/>
              </a:rPr>
              <a:t>行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人走搭石的时候，动作是那么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协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(xié)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调有序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(xù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！前面的抬起脚来，后面的紧跟上去，踏踏的声音，像轻快的音乐；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清波漾漾，人影绰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chuò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）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绰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给人画一般的美感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图片 46083" descr="fe12c76f201bc4c580cb4aac"/>
          <p:cNvPicPr/>
          <p:nvPr/>
        </p:nvPicPr>
        <p:blipFill>
          <a:blip r:embed="rId1"/>
          <a:stretch/>
        </p:blipFill>
        <p:spPr>
          <a:xfrm>
            <a:off x="4940280" y="3800520"/>
            <a:ext cx="4203720" cy="3057480"/>
          </a:xfrm>
          <a:prstGeom prst="rect">
            <a:avLst/>
          </a:prstGeom>
          <a:ln w="0">
            <a:noFill/>
          </a:ln>
        </p:spPr>
      </p:pic>
      <p:sp>
        <p:nvSpPr>
          <p:cNvPr id="536" name="文本框 46084"/>
          <p:cNvSpPr/>
          <p:nvPr/>
        </p:nvSpPr>
        <p:spPr>
          <a:xfrm>
            <a:off x="5148360" y="3860640"/>
            <a:ext cx="3456000" cy="20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绰：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～号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〕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外号，诨名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宽裕；富裕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形容姿态柔美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文本框 46085"/>
          <p:cNvSpPr/>
          <p:nvPr/>
        </p:nvSpPr>
        <p:spPr>
          <a:xfrm>
            <a:off x="4932360" y="6021360"/>
            <a:ext cx="43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人很多，影子映在水里，很美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矩形标注 46086"/>
          <p:cNvSpPr/>
          <p:nvPr/>
        </p:nvSpPr>
        <p:spPr>
          <a:xfrm>
            <a:off x="5508720" y="0"/>
            <a:ext cx="2449440" cy="549360"/>
          </a:xfrm>
          <a:prstGeom prst="wedgeRectCallout">
            <a:avLst>
              <a:gd name="adj1" fmla="val -43194"/>
              <a:gd name="adj2" fmla="val 80925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xíng    háng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9" name="组合 46097"/>
          <p:cNvGrpSpPr/>
          <p:nvPr/>
        </p:nvGrpSpPr>
        <p:grpSpPr>
          <a:xfrm>
            <a:off x="3276720" y="3800520"/>
            <a:ext cx="4203720" cy="3057480"/>
            <a:chOff x="3276720" y="3800520"/>
            <a:chExt cx="4203720" cy="3057480"/>
          </a:xfrm>
        </p:grpSpPr>
        <p:pic>
          <p:nvPicPr>
            <p:cNvPr id="540" name="图片 46095" descr="fe12c76f201bc4c580cb4aac"/>
            <p:cNvPicPr/>
            <p:nvPr/>
          </p:nvPicPr>
          <p:blipFill>
            <a:blip r:embed="rId2"/>
            <a:stretch/>
          </p:blipFill>
          <p:spPr>
            <a:xfrm>
              <a:off x="3276720" y="3800520"/>
              <a:ext cx="4203720" cy="305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文本框 46096"/>
            <p:cNvSpPr/>
            <p:nvPr/>
          </p:nvSpPr>
          <p:spPr>
            <a:xfrm>
              <a:off x="3419640" y="4005360"/>
              <a:ext cx="396072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1a19"/>
                  </a:solidFill>
                  <a:latin typeface="Arial"/>
                  <a:ea typeface="宋体"/>
                </a:rPr>
                <a:t>你们从哪儿体会到这幅画面的美呢？ </a:t>
              </a:r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5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80"/>
                                        <p:tgtEl>
                                          <p:spTgt spid="5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5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80"/>
                                        <p:tgtEl>
                                          <p:spTgt spid="5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checkerboard(across)" transition="out">
                                      <p:cBhvr additive="repl">
                                        <p:cTn id="109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dur="indefinite" nodeType="withEffect" fill="hold" presetClass="exit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checkerboard(across)" transition="out">
                                      <p:cBhvr additive="repl">
                                        <p:cTn id="112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dur="indefinite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5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" dur="1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Picture 2" descr="20060608234209993"/>
          <p:cNvPicPr/>
          <p:nvPr/>
        </p:nvPicPr>
        <p:blipFill>
          <a:blip r:embed="rId1"/>
          <a:stretch/>
        </p:blipFill>
        <p:spPr>
          <a:xfrm>
            <a:off x="2325600" y="0"/>
            <a:ext cx="4813560" cy="6858000"/>
          </a:xfrm>
          <a:prstGeom prst="rect">
            <a:avLst/>
          </a:prstGeom>
          <a:ln w="0">
            <a:noFill/>
          </a:ln>
        </p:spPr>
      </p:pic>
      <p:sp>
        <p:nvSpPr>
          <p:cNvPr id="543" name="Text Box 3"/>
          <p:cNvSpPr/>
          <p:nvPr/>
        </p:nvSpPr>
        <p:spPr>
          <a:xfrm>
            <a:off x="1068480" y="836640"/>
            <a:ext cx="85068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6666"/>
                </a:solidFill>
                <a:latin typeface="Arial"/>
                <a:ea typeface="宋体"/>
              </a:rPr>
              <a:t>清　波　漾　漾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Picture 2" descr="20060608234209130"/>
          <p:cNvPicPr/>
          <p:nvPr/>
        </p:nvPicPr>
        <p:blipFill>
          <a:blip r:embed="rId1"/>
          <a:stretch/>
        </p:blipFill>
        <p:spPr>
          <a:xfrm>
            <a:off x="0" y="68400"/>
            <a:ext cx="9144000" cy="6789600"/>
          </a:xfrm>
          <a:prstGeom prst="rect">
            <a:avLst/>
          </a:prstGeom>
          <a:ln w="0">
            <a:noFill/>
          </a:ln>
        </p:spPr>
      </p:pic>
      <p:sp>
        <p:nvSpPr>
          <p:cNvPr id="545" name="Text Box 3"/>
          <p:cNvSpPr/>
          <p:nvPr/>
        </p:nvSpPr>
        <p:spPr>
          <a:xfrm>
            <a:off x="0" y="5516640"/>
            <a:ext cx="471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d9d8ec"/>
                </a:solidFill>
                <a:latin typeface="Arial"/>
                <a:ea typeface="宋体"/>
              </a:rPr>
              <a:t>人　影　绰　绰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Picture 2" descr="2_17005000"/>
          <p:cNvPicPr/>
          <p:nvPr/>
        </p:nvPicPr>
        <p:blipFill>
          <a:blip r:embed="rId1"/>
          <a:stretch/>
        </p:blipFill>
        <p:spPr>
          <a:xfrm>
            <a:off x="0" y="-1260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547" name="Text Box 3"/>
          <p:cNvSpPr/>
          <p:nvPr/>
        </p:nvSpPr>
        <p:spPr>
          <a:xfrm>
            <a:off x="-67320" y="2133720"/>
            <a:ext cx="139932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d9d8ec"/>
                </a:solidFill>
                <a:latin typeface="Arial"/>
                <a:ea typeface="宋体"/>
              </a:rPr>
              <a:t>清　波　漾　漾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4"/>
          <p:cNvSpPr/>
          <p:nvPr/>
        </p:nvSpPr>
        <p:spPr>
          <a:xfrm>
            <a:off x="5838120" y="2536920"/>
            <a:ext cx="139932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人　影　绰　绰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文本框 36865"/>
          <p:cNvSpPr/>
          <p:nvPr/>
        </p:nvSpPr>
        <p:spPr>
          <a:xfrm>
            <a:off x="1258920" y="1125360"/>
            <a:ext cx="3529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1a19"/>
                </a:solidFill>
                <a:latin typeface="Arial"/>
                <a:ea typeface="宋体"/>
              </a:rPr>
              <a:t>每当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1a19"/>
                </a:solidFill>
                <a:latin typeface="Arial"/>
                <a:ea typeface="宋体"/>
              </a:rPr>
              <a:t>上工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1a19"/>
                </a:solidFill>
                <a:latin typeface="Arial"/>
                <a:ea typeface="宋体"/>
              </a:rPr>
              <a:t>下工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1a19"/>
                </a:solidFill>
                <a:latin typeface="Arial"/>
                <a:ea typeface="宋体"/>
              </a:rPr>
              <a:t>一行人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1a19"/>
                </a:solidFill>
                <a:latin typeface="Arial"/>
                <a:ea typeface="宋体"/>
              </a:rPr>
              <a:t>走搭石的时候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1a19"/>
                </a:solidFill>
                <a:latin typeface="Arial"/>
                <a:ea typeface="宋体"/>
              </a:rPr>
              <a:t>动作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1a19"/>
                </a:solidFill>
                <a:latin typeface="Arial"/>
                <a:ea typeface="宋体"/>
              </a:rPr>
              <a:t>是那么协调有序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1a19"/>
                </a:solidFill>
                <a:latin typeface="Arial"/>
                <a:ea typeface="宋体"/>
              </a:rPr>
              <a:t>前面的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1a19"/>
                </a:solidFill>
                <a:latin typeface="Arial"/>
                <a:ea typeface="宋体"/>
              </a:rPr>
              <a:t>抬起脚来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文本框 36866"/>
          <p:cNvSpPr/>
          <p:nvPr/>
        </p:nvSpPr>
        <p:spPr>
          <a:xfrm>
            <a:off x="5003640" y="1052640"/>
            <a:ext cx="3024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1a19"/>
                </a:solidFill>
                <a:latin typeface="Arial"/>
                <a:ea typeface="宋体"/>
              </a:rPr>
              <a:t>后面的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1a19"/>
                </a:solidFill>
                <a:latin typeface="Arial"/>
                <a:ea typeface="宋体"/>
              </a:rPr>
              <a:t>紧跟上去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1a19"/>
                </a:solidFill>
                <a:latin typeface="Arial"/>
                <a:ea typeface="宋体"/>
              </a:rPr>
              <a:t>踏踏的声音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1a19"/>
                </a:solidFill>
                <a:latin typeface="Arial"/>
                <a:ea typeface="宋体"/>
              </a:rPr>
              <a:t>像轻快的音乐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1a19"/>
                </a:solidFill>
                <a:latin typeface="Arial"/>
                <a:ea typeface="宋体"/>
              </a:rPr>
              <a:t>清波漾漾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1a19"/>
                </a:solidFill>
                <a:latin typeface="Arial"/>
                <a:ea typeface="宋体"/>
              </a:rPr>
              <a:t>人影绰绰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1a19"/>
                </a:solidFill>
                <a:latin typeface="Arial"/>
                <a:ea typeface="宋体"/>
              </a:rPr>
              <a:t>给人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1a19"/>
                </a:solidFill>
                <a:latin typeface="Arial"/>
                <a:ea typeface="宋体"/>
              </a:rPr>
              <a:t>画一般的美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矩形 36870"/>
          <p:cNvSpPr txBox="1"/>
          <p:nvPr/>
        </p:nvSpPr>
        <p:spPr>
          <a:xfrm>
            <a:off x="250920" y="189000"/>
            <a:ext cx="1371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朗读：</a:t>
            </a:r>
            <a:endParaRPr b="1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楷体_GB2312"/>
              <a:ea typeface="楷体_GB2312"/>
            </a:endParaRPr>
          </a:p>
        </p:txBody>
      </p:sp>
      <p:pic>
        <p:nvPicPr>
          <p:cNvPr id="552" name="kiss the rain.mp3" descr=""/>
          <p:cNvPicPr/>
          <p:nvPr/>
        </p:nvPicPr>
        <p:blipFill>
          <a:blip r:embed="rId1"/>
          <a:stretch/>
        </p:blipFill>
        <p:spPr>
          <a:xfrm>
            <a:off x="7451640" y="5734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4" dur="260757" fill="hold"/>
                                        <p:tgtEl>
                                          <p:spTgt spid="5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Picture 5" descr="21_03"/>
          <p:cNvPicPr/>
          <p:nvPr/>
        </p:nvPicPr>
        <p:blipFill>
          <a:blip r:embed="rId1"/>
          <a:stretch/>
        </p:blipFill>
        <p:spPr>
          <a:xfrm>
            <a:off x="0" y="-34920"/>
            <a:ext cx="9144000" cy="6892920"/>
          </a:xfrm>
          <a:prstGeom prst="rect">
            <a:avLst/>
          </a:prstGeom>
          <a:ln w="0">
            <a:noFill/>
          </a:ln>
        </p:spPr>
      </p:pic>
      <p:sp>
        <p:nvSpPr>
          <p:cNvPr id="554" name="Text Box 6"/>
          <p:cNvSpPr/>
          <p:nvPr/>
        </p:nvSpPr>
        <p:spPr>
          <a:xfrm>
            <a:off x="2556000" y="1628640"/>
            <a:ext cx="410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5" name="组合 48134"/>
          <p:cNvGrpSpPr/>
          <p:nvPr/>
        </p:nvGrpSpPr>
        <p:grpSpPr>
          <a:xfrm>
            <a:off x="250920" y="0"/>
            <a:ext cx="8028000" cy="5705640"/>
            <a:chOff x="250920" y="0"/>
            <a:chExt cx="8028000" cy="5705640"/>
          </a:xfrm>
        </p:grpSpPr>
        <p:pic>
          <p:nvPicPr>
            <p:cNvPr id="556" name="图片 48132" descr="25ccc56c2c061bf780cb4a6f"/>
            <p:cNvPicPr/>
            <p:nvPr/>
          </p:nvPicPr>
          <p:blipFill>
            <a:blip r:embed="rId2"/>
            <a:stretch/>
          </p:blipFill>
          <p:spPr>
            <a:xfrm>
              <a:off x="250920" y="0"/>
              <a:ext cx="8028000" cy="570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7" name="Text Box 7"/>
            <p:cNvSpPr/>
            <p:nvPr/>
          </p:nvSpPr>
          <p:spPr>
            <a:xfrm>
              <a:off x="358920" y="88920"/>
              <a:ext cx="7920000" cy="19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001a19"/>
                  </a:solidFill>
                  <a:latin typeface="Arial"/>
                  <a:ea typeface="宋体"/>
                </a:rPr>
                <a:t>两人相遇，招手礼让：</a:t>
              </a:r>
              <a:endParaRPr b="1" lang="en-US" sz="5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     </a:t>
              </a:r>
              <a:r>
                <a:rPr b="1" lang="zh-CN" sz="4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如果有两个人面对面同时走到溪边，总会在第一块搭石前止步，招手示意，让对方先走，等对方过了河，俩人再说上几句家常话，才相背而行。</a:t>
              </a: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8" name="文本框 48135"/>
          <p:cNvSpPr/>
          <p:nvPr/>
        </p:nvSpPr>
        <p:spPr>
          <a:xfrm>
            <a:off x="324000" y="5084640"/>
            <a:ext cx="78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宋体"/>
              </a:rPr>
              <a:t>谈谈你对这幅画面的感受吧？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矩形 48136"/>
          <p:cNvSpPr txBox="1"/>
          <p:nvPr/>
        </p:nvSpPr>
        <p:spPr>
          <a:xfrm>
            <a:off x="6012000" y="5805360"/>
            <a:ext cx="2786040" cy="80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ffff00"/>
                  </a:solidFill>
                  <a:round/>
                </a:ln>
                <a:solidFill>
                  <a:srgbClr val="ff33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互相谦让</a:t>
            </a:r>
            <a:endParaRPr b="1" lang="en-US" sz="1800" spc="1" strike="noStrike">
              <a:ln w="19080">
                <a:solidFill>
                  <a:srgbClr val="ffff00"/>
                </a:solidFill>
                <a:round/>
              </a:ln>
              <a:solidFill>
                <a:srgbClr val="ff33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楷体_GB2312"/>
              <a:ea typeface="楷体_GB2312"/>
            </a:endParaRPr>
          </a:p>
        </p:txBody>
      </p:sp>
    </p:spTree>
  </p:cSld>
  <p:transition spd="slow">
    <p:wheel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/>
          </p:nvPr>
        </p:nvSpPr>
        <p:spPr>
          <a:xfrm>
            <a:off x="34920" y="115560"/>
            <a:ext cx="91454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当这位老人年轻的时候，他一定也曾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（                                     ）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当这位年轻人老了的时候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也一定会有（                                      ）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因为（                                           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文本框 47107"/>
          <p:cNvSpPr/>
          <p:nvPr/>
        </p:nvSpPr>
        <p:spPr>
          <a:xfrm>
            <a:off x="2987640" y="2133720"/>
            <a:ext cx="633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宋体"/>
              </a:rPr>
              <a:t>年轻人伏下身子背他过去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文本框 47109"/>
          <p:cNvSpPr/>
          <p:nvPr/>
        </p:nvSpPr>
        <p:spPr>
          <a:xfrm>
            <a:off x="1835280" y="3573360"/>
            <a:ext cx="7019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宋体"/>
              </a:rPr>
              <a:t>人们把这看成是理所当然的事</a:t>
            </a: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文本框 47110"/>
          <p:cNvSpPr/>
          <p:nvPr/>
        </p:nvSpPr>
        <p:spPr>
          <a:xfrm>
            <a:off x="900000" y="765000"/>
            <a:ext cx="51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Arial"/>
                <a:ea typeface="宋体"/>
              </a:rPr>
              <a:t>伏下身子背其他的老人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1" dur="80"/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5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" dur="80"/>
                                        <p:tgtEl>
                                          <p:spTgt spid="5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5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5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5" dur="80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6" dur="80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7" dur="80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39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</a:rPr>
              <a:t>透过这个“伏”，一代又一代人的“理所当然”，你又体会到了什么？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矩形 63491"/>
          <p:cNvSpPr txBox="1"/>
          <p:nvPr/>
        </p:nvSpPr>
        <p:spPr>
          <a:xfrm>
            <a:off x="900000" y="3645000"/>
            <a:ext cx="720108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尊老敬老的心灵美！</a:t>
            </a:r>
            <a:endParaRPr b="1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楷体_GB2312"/>
              <a:ea typeface="楷体_GB2312"/>
            </a:endParaRPr>
          </a:p>
        </p:txBody>
      </p:sp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1a19"/>
                </a:solidFill>
                <a:latin typeface="Arial"/>
              </a:rPr>
              <a:t>这份美好情感也是 </a:t>
            </a:r>
            <a:r>
              <a:rPr b="0" lang="en-US" sz="4000" spc="-1" strike="noStrike">
                <a:solidFill>
                  <a:srgbClr val="001a19"/>
                </a:solidFill>
                <a:latin typeface="Arial"/>
              </a:rPr>
              <a:t>----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文本框 50179"/>
          <p:cNvSpPr/>
          <p:nvPr/>
        </p:nvSpPr>
        <p:spPr>
          <a:xfrm>
            <a:off x="4427640" y="2637000"/>
            <a:ext cx="44654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宋体"/>
              </a:rPr>
              <a:t>家乡的一道风景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矩形 50180"/>
          <p:cNvSpPr/>
          <p:nvPr/>
        </p:nvSpPr>
        <p:spPr>
          <a:xfrm>
            <a:off x="395280" y="3645000"/>
            <a:ext cx="85406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风景美心灵更美，这更是家乡的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文本框 50181"/>
          <p:cNvSpPr/>
          <p:nvPr/>
        </p:nvSpPr>
        <p:spPr>
          <a:xfrm>
            <a:off x="6372360" y="4437000"/>
            <a:ext cx="230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宋体"/>
              </a:rPr>
              <a:t>一道风景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2" dur="80"/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3" dur="80"/>
                                        <p:tgtEl>
                                          <p:spTgt spid="5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4" dur="80"/>
                                        <p:tgtEl>
                                          <p:spTgt spid="5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9" dur="500"/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0" dur="500"/>
                                        <p:tgtEl>
                                          <p:spTgt spid="5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1" dur="500"/>
                                        <p:tgtEl>
                                          <p:spTgt spid="5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文本框 54273"/>
          <p:cNvSpPr/>
          <p:nvPr/>
        </p:nvSpPr>
        <p:spPr>
          <a:xfrm>
            <a:off x="250920" y="1341360"/>
            <a:ext cx="8640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767ff"/>
                </a:solidFill>
                <a:latin typeface="Arial"/>
                <a:ea typeface="宋体"/>
              </a:rPr>
              <a:t>       </a:t>
            </a:r>
            <a:r>
              <a:rPr b="1" lang="zh-CN" sz="4000" spc="-1" strike="noStrike">
                <a:solidFill>
                  <a:srgbClr val="6767ff"/>
                </a:solidFill>
                <a:latin typeface="Arial"/>
                <a:ea typeface="宋体"/>
              </a:rPr>
              <a:t>假如遇到孩子来走搭石，大人总要</a:t>
            </a:r>
            <a:r>
              <a:rPr b="1" lang="zh-CN" sz="4000" spc="-1" strike="noStrike" u="sng">
                <a:solidFill>
                  <a:srgbClr val="6767ff"/>
                </a:solidFill>
                <a:uFillTx/>
                <a:latin typeface="Arial"/>
                <a:ea typeface="宋体"/>
              </a:rPr>
              <a:t>             </a:t>
            </a:r>
            <a:r>
              <a:rPr b="1" lang="zh-CN" sz="4000" spc="-1" strike="noStrike">
                <a:solidFill>
                  <a:srgbClr val="6767ff"/>
                </a:solidFill>
                <a:latin typeface="Arial"/>
                <a:ea typeface="宋体"/>
              </a:rPr>
              <a:t>，人们把这看成理所当然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767ff"/>
                </a:solidFill>
                <a:latin typeface="Arial"/>
                <a:ea typeface="宋体"/>
              </a:rPr>
              <a:t>的事。        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767ff"/>
                </a:solidFill>
                <a:latin typeface="Arial"/>
                <a:ea typeface="宋体"/>
              </a:rPr>
              <a:t>       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文本框 54274"/>
          <p:cNvSpPr/>
          <p:nvPr/>
        </p:nvSpPr>
        <p:spPr>
          <a:xfrm>
            <a:off x="250920" y="260280"/>
            <a:ext cx="8497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激发想象，练习表达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文本框 54275"/>
          <p:cNvSpPr/>
          <p:nvPr/>
        </p:nvSpPr>
        <p:spPr>
          <a:xfrm>
            <a:off x="250920" y="3573360"/>
            <a:ext cx="8640720" cy="29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767ff"/>
                </a:solidFill>
                <a:latin typeface="Arial"/>
                <a:ea typeface="宋体"/>
              </a:rPr>
              <a:t>   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767ff"/>
                </a:solidFill>
                <a:latin typeface="Arial"/>
                <a:ea typeface="宋体"/>
              </a:rPr>
              <a:t>        </a:t>
            </a:r>
            <a:r>
              <a:rPr b="1" lang="zh-CN" sz="4000" spc="-1" strike="noStrike">
                <a:solidFill>
                  <a:srgbClr val="6767ff"/>
                </a:solidFill>
                <a:latin typeface="Arial"/>
                <a:ea typeface="宋体"/>
              </a:rPr>
              <a:t>如果遇到</a:t>
            </a:r>
            <a:r>
              <a:rPr b="1" lang="zh-CN" sz="4000" spc="-1" strike="noStrike" u="sng">
                <a:solidFill>
                  <a:srgbClr val="6767ff"/>
                </a:solidFill>
                <a:uFillTx/>
                <a:latin typeface="Arial"/>
                <a:ea typeface="宋体"/>
              </a:rPr>
              <a:t>            </a:t>
            </a:r>
            <a:r>
              <a:rPr b="1" lang="zh-CN" sz="4000" spc="-1" strike="noStrike">
                <a:solidFill>
                  <a:srgbClr val="6767ff"/>
                </a:solidFill>
                <a:latin typeface="Arial"/>
                <a:ea typeface="宋体"/>
              </a:rPr>
              <a:t> ，</a:t>
            </a:r>
            <a:r>
              <a:rPr b="1" lang="zh-CN" sz="4000" spc="-1" strike="noStrike" u="sng">
                <a:solidFill>
                  <a:srgbClr val="6767ff"/>
                </a:solidFill>
                <a:uFillTx/>
                <a:latin typeface="Arial"/>
                <a:ea typeface="宋体"/>
              </a:rPr>
              <a:t>           </a:t>
            </a:r>
            <a:r>
              <a:rPr b="1" lang="zh-CN" sz="4000" spc="-1" strike="noStrike">
                <a:solidFill>
                  <a:srgbClr val="6767ff"/>
                </a:solidFill>
                <a:latin typeface="Arial"/>
                <a:ea typeface="宋体"/>
              </a:rPr>
              <a:t>总要  </a:t>
            </a:r>
            <a:r>
              <a:rPr b="1" lang="zh-CN" sz="4000" spc="-1" strike="noStrike" u="sng">
                <a:solidFill>
                  <a:srgbClr val="6767ff"/>
                </a:solidFill>
                <a:uFillTx/>
                <a:latin typeface="Arial"/>
                <a:ea typeface="宋体"/>
              </a:rPr>
              <a:t>              </a:t>
            </a:r>
            <a:r>
              <a:rPr b="1" lang="zh-CN" sz="4000" spc="-1" strike="noStrike">
                <a:solidFill>
                  <a:srgbClr val="6767ff"/>
                </a:solidFill>
                <a:latin typeface="Arial"/>
                <a:ea typeface="宋体"/>
              </a:rPr>
              <a:t>，人们把这看成理所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767ff"/>
                </a:solidFill>
                <a:latin typeface="Arial"/>
                <a:ea typeface="宋体"/>
              </a:rPr>
              <a:t>当然的事。       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767ff"/>
                </a:solidFill>
                <a:latin typeface="Arial"/>
                <a:ea typeface="宋体"/>
              </a:rPr>
              <a:t>         </a:t>
            </a:r>
            <a:r>
              <a:rPr b="1" lang="zh-CN" sz="4000" spc="-1" strike="noStrike" u="sng">
                <a:solidFill>
                  <a:srgbClr val="6767ff"/>
                </a:solidFill>
                <a:uFillTx/>
                <a:latin typeface="Arial"/>
                <a:ea typeface="宋体"/>
              </a:rPr>
              <a:t>              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00ff"/>
                </a:solidFill>
                <a:latin typeface="Arial"/>
              </a:rPr>
              <a:t>自由的读课文思考两个问题</a:t>
            </a:r>
            <a:r>
              <a:rPr b="1" lang="zh-CN" sz="4600" spc="-1" strike="noStrike">
                <a:solidFill>
                  <a:srgbClr val="ff00ff"/>
                </a:solidFill>
                <a:latin typeface="Arial"/>
              </a:rPr>
              <a:t>：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250920" y="16999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1a19"/>
                </a:solidFill>
                <a:latin typeface="Arial"/>
              </a:rPr>
              <a:t>1</a:t>
            </a:r>
            <a:r>
              <a:rPr b="1" lang="zh-CN" sz="5400" spc="-1" strike="noStrike">
                <a:solidFill>
                  <a:srgbClr val="001a19"/>
                </a:solidFill>
                <a:latin typeface="Arial"/>
              </a:rPr>
              <a:t>、什么是“搭石”</a:t>
            </a:r>
            <a:r>
              <a:rPr b="1" lang="en-US" sz="5400" spc="-1" strike="noStrike">
                <a:solidFill>
                  <a:srgbClr val="001a19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1a19"/>
                </a:solidFill>
                <a:latin typeface="Arial"/>
              </a:rPr>
              <a:t>2</a:t>
            </a:r>
            <a:r>
              <a:rPr b="1" lang="zh-CN" sz="5400" spc="-1" strike="noStrike">
                <a:solidFill>
                  <a:srgbClr val="001a19"/>
                </a:solidFill>
                <a:latin typeface="Arial"/>
              </a:rPr>
              <a:t>、“搭石”给你留下了怎样的印象</a:t>
            </a:r>
            <a:r>
              <a:rPr b="1" lang="en-US" sz="5400" spc="-1" strike="noStrike">
                <a:solidFill>
                  <a:srgbClr val="001a19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Text Box 3"/>
          <p:cNvSpPr/>
          <p:nvPr/>
        </p:nvSpPr>
        <p:spPr>
          <a:xfrm>
            <a:off x="2268360" y="1844640"/>
            <a:ext cx="3959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5"/>
          <p:cNvSpPr/>
          <p:nvPr/>
        </p:nvSpPr>
        <p:spPr>
          <a:xfrm>
            <a:off x="0" y="22050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这看得见的画面“美”和看不见的心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灵“美”构成了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5" name="kiss the rain.mp3" descr=""/>
          <p:cNvPicPr/>
          <p:nvPr/>
        </p:nvPicPr>
        <p:blipFill>
          <a:blip r:embed="rId1"/>
          <a:stretch/>
        </p:blipFill>
        <p:spPr>
          <a:xfrm>
            <a:off x="8028000" y="595008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576" name="直接连接符 21511"/>
          <p:cNvSpPr/>
          <p:nvPr/>
        </p:nvSpPr>
        <p:spPr>
          <a:xfrm>
            <a:off x="3851280" y="3357720"/>
            <a:ext cx="2376360" cy="0"/>
          </a:xfrm>
          <a:prstGeom prst="line">
            <a:avLst/>
          </a:prstGeom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矩形 21512"/>
          <p:cNvSpPr txBox="1"/>
          <p:nvPr/>
        </p:nvSpPr>
        <p:spPr>
          <a:xfrm>
            <a:off x="3276720" y="3573360"/>
            <a:ext cx="5599080" cy="101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ffff00"/>
                  </a:solidFill>
                  <a:round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家乡的一道风景</a:t>
            </a:r>
            <a:endParaRPr b="1" lang="en-US" sz="1800" spc="1" strike="noStrike">
              <a:ln w="19080">
                <a:solidFill>
                  <a:srgbClr val="ffff00"/>
                </a:solidFill>
                <a:round/>
              </a:ln>
              <a:solidFill>
                <a:srgbClr val="ff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楷体_GB2312"/>
              <a:ea typeface="楷体_GB2312"/>
            </a:endParaRPr>
          </a:p>
        </p:txBody>
      </p:sp>
    </p:spTree>
  </p:cSld>
  <p:transition spd="slow">
    <p:dissolve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7" dur="260757" fill="hold"/>
                                        <p:tgtEl>
                                          <p:spTgt spid="5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Text Box 3"/>
          <p:cNvSpPr/>
          <p:nvPr/>
        </p:nvSpPr>
        <p:spPr>
          <a:xfrm>
            <a:off x="2268360" y="1844640"/>
            <a:ext cx="3959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4"/>
          <p:cNvSpPr/>
          <p:nvPr/>
        </p:nvSpPr>
        <p:spPr>
          <a:xfrm>
            <a:off x="611280" y="1557360"/>
            <a:ext cx="763272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Arial"/>
                <a:ea typeface="宋体"/>
              </a:rPr>
              <a:t>　</a:t>
            </a:r>
            <a:r>
              <a:rPr b="1" lang="zh-CN" sz="4800" spc="-1" strike="noStrike">
                <a:solidFill>
                  <a:srgbClr val="003399"/>
                </a:solidFill>
                <a:latin typeface="Arial"/>
                <a:ea typeface="宋体"/>
              </a:rPr>
              <a:t>　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一排排搭石，任人走，任人踏，它们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宋体"/>
              </a:rPr>
              <a:t>联结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着故乡的小路，也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宋体"/>
              </a:rPr>
              <a:t>联结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着乡亲们美好的情感。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8569080" cy="511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楷体_GB2312"/>
              </a:rPr>
              <a:t>生活中并不缺少美，而是缺少发现美的眼睛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Picture 2" descr="nature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3" descr="4B257572911[1]"/>
          <p:cNvPicPr/>
          <p:nvPr/>
        </p:nvPicPr>
        <p:blipFill>
          <a:blip r:embed="rId2"/>
          <a:stretch/>
        </p:blipFill>
        <p:spPr>
          <a:xfrm>
            <a:off x="1447920" y="4876920"/>
            <a:ext cx="6172200" cy="76176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4" descr="4B398627253"/>
          <p:cNvPicPr/>
          <p:nvPr/>
        </p:nvPicPr>
        <p:blipFill>
          <a:blip r:embed="rId3"/>
          <a:stretch/>
        </p:blipFill>
        <p:spPr>
          <a:xfrm>
            <a:off x="6934320" y="4343400"/>
            <a:ext cx="639720" cy="63972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5" descr="4B398630205"/>
          <p:cNvPicPr/>
          <p:nvPr/>
        </p:nvPicPr>
        <p:blipFill>
          <a:blip r:embed="rId4"/>
          <a:stretch/>
        </p:blipFill>
        <p:spPr>
          <a:xfrm>
            <a:off x="684360" y="836640"/>
            <a:ext cx="487080" cy="487440"/>
          </a:xfrm>
          <a:prstGeom prst="rect">
            <a:avLst/>
          </a:prstGeom>
          <a:ln w="0">
            <a:noFill/>
          </a:ln>
        </p:spPr>
      </p:pic>
      <p:pic>
        <p:nvPicPr>
          <p:cNvPr id="585" name="Picture 6" descr="4B398627253"/>
          <p:cNvPicPr/>
          <p:nvPr/>
        </p:nvPicPr>
        <p:blipFill>
          <a:blip r:embed="rId5"/>
          <a:stretch/>
        </p:blipFill>
        <p:spPr>
          <a:xfrm>
            <a:off x="1600200" y="5181480"/>
            <a:ext cx="609480" cy="609840"/>
          </a:xfrm>
          <a:prstGeom prst="rect">
            <a:avLst/>
          </a:prstGeom>
          <a:ln w="0">
            <a:noFill/>
          </a:ln>
        </p:spPr>
      </p:pic>
      <p:sp>
        <p:nvSpPr>
          <p:cNvPr id="586" name="PlaceHolder 1"/>
          <p:cNvSpPr>
            <a:spLocks noGrp="1"/>
          </p:cNvSpPr>
          <p:nvPr>
            <p:ph/>
          </p:nvPr>
        </p:nvSpPr>
        <p:spPr>
          <a:xfrm>
            <a:off x="250920" y="1341360"/>
            <a:ext cx="853272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布置作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必做：摘抄文中自己喜欢的句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选做：课下搜集有关“美”的图片，一起交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写写自己发现的平凡事物中的美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19" dur="2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0" name="组合 7173"/>
          <p:cNvGrpSpPr/>
          <p:nvPr/>
        </p:nvGrpSpPr>
        <p:grpSpPr>
          <a:xfrm>
            <a:off x="0" y="692280"/>
            <a:ext cx="9144000" cy="5329080"/>
            <a:chOff x="0" y="692280"/>
            <a:chExt cx="9144000" cy="5329080"/>
          </a:xfrm>
        </p:grpSpPr>
        <p:pic>
          <p:nvPicPr>
            <p:cNvPr id="511" name="图片 7172" descr="75e293efa5a0496279f05568"/>
            <p:cNvPicPr/>
            <p:nvPr/>
          </p:nvPicPr>
          <p:blipFill>
            <a:blip r:embed="rId1"/>
            <a:stretch/>
          </p:blipFill>
          <p:spPr>
            <a:xfrm>
              <a:off x="0" y="692280"/>
              <a:ext cx="9144000" cy="532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2" name="Text Box 3"/>
            <p:cNvSpPr/>
            <p:nvPr/>
          </p:nvSpPr>
          <p:spPr>
            <a:xfrm>
              <a:off x="0" y="1557360"/>
              <a:ext cx="8209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zh-CN" sz="4400" spc="-1" strike="noStrike">
                  <a:solidFill>
                    <a:srgbClr val="001a19"/>
                  </a:solidFill>
                  <a:latin typeface="Arial"/>
                  <a:ea typeface="宋体"/>
                </a:rPr>
                <a:t>进入秋天，天气变凉，家乡的人们会根据水的深浅，从河的两岸找来一些</a:t>
              </a:r>
              <a:r>
                <a:rPr b="1" lang="zh-CN" sz="4400" spc="-1" strike="noStrike">
                  <a:solidFill>
                    <a:srgbClr val="006666"/>
                  </a:solidFill>
                  <a:latin typeface="Arial"/>
                  <a:ea typeface="宋体"/>
                </a:rPr>
                <a:t>平整方正</a:t>
              </a:r>
              <a:r>
                <a:rPr b="1" lang="zh-CN" sz="4400" spc="-1" strike="noStrike">
                  <a:solidFill>
                    <a:srgbClr val="001a19"/>
                  </a:solidFill>
                  <a:latin typeface="Arial"/>
                  <a:ea typeface="宋体"/>
                </a:rPr>
                <a:t>的石头，按照</a:t>
              </a:r>
              <a:r>
                <a:rPr b="1" lang="zh-CN" sz="4400" spc="-1" strike="noStrike">
                  <a:solidFill>
                    <a:srgbClr val="006666"/>
                  </a:solidFill>
                  <a:latin typeface="Arial"/>
                  <a:ea typeface="宋体"/>
                </a:rPr>
                <a:t>二尺左右</a:t>
              </a:r>
              <a:r>
                <a:rPr b="1" lang="zh-CN" sz="4400" spc="-1" strike="noStrike">
                  <a:solidFill>
                    <a:srgbClr val="001a19"/>
                  </a:solidFill>
                  <a:latin typeface="Arial"/>
                  <a:ea typeface="宋体"/>
                </a:rPr>
                <a:t>的间隔，在小溪里横着摆上一排，让人们从上面踏过，这就是</a:t>
              </a:r>
              <a:r>
                <a:rPr b="1" lang="zh-CN" sz="4400" spc="-1" strike="noStrike" u="sng">
                  <a:solidFill>
                    <a:srgbClr val="ff3300"/>
                  </a:solidFill>
                  <a:uFillTx/>
                  <a:latin typeface="Arial"/>
                  <a:ea typeface="宋体"/>
                </a:rPr>
                <a:t>搭石</a:t>
              </a:r>
              <a:r>
                <a:rPr b="1" lang="zh-CN" sz="4400" spc="-1" strike="noStrike">
                  <a:solidFill>
                    <a:srgbClr val="001a19"/>
                  </a:solidFill>
                  <a:latin typeface="Arial"/>
                  <a:ea typeface="宋体"/>
                </a:rPr>
                <a:t>。</a:t>
              </a: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blinds dir="vert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3" name="组合 64517"/>
          <p:cNvGrpSpPr/>
          <p:nvPr/>
        </p:nvGrpSpPr>
        <p:grpSpPr>
          <a:xfrm>
            <a:off x="539640" y="1557360"/>
            <a:ext cx="7914960" cy="3362400"/>
            <a:chOff x="539640" y="1557360"/>
            <a:chExt cx="7914960" cy="3362400"/>
          </a:xfrm>
        </p:grpSpPr>
        <p:pic>
          <p:nvPicPr>
            <p:cNvPr id="514" name="图片 64515" descr="15e96d083fedb4656a60fbac"/>
            <p:cNvPicPr/>
            <p:nvPr/>
          </p:nvPicPr>
          <p:blipFill>
            <a:blip r:embed="rId1"/>
            <a:stretch/>
          </p:blipFill>
          <p:spPr>
            <a:xfrm>
              <a:off x="539640" y="1557360"/>
              <a:ext cx="7914960" cy="336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5" name="文本框 64516"/>
            <p:cNvSpPr/>
            <p:nvPr/>
          </p:nvSpPr>
          <p:spPr>
            <a:xfrm>
              <a:off x="1184040" y="2086200"/>
              <a:ext cx="705816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1a19"/>
                  </a:solidFill>
                  <a:latin typeface="Arial"/>
                  <a:ea typeface="宋体"/>
                </a:rPr>
                <a:t>如果没有搭石，家乡的人们怎么过小溪呢？谁也能用课文中的句子来说一说。</a:t>
              </a:r>
              <a:br>
                <a:rPr sz="4000"/>
              </a:br>
              <a:br>
                <a:rPr sz="4000"/>
              </a:b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文本框 40973"/>
          <p:cNvSpPr/>
          <p:nvPr/>
        </p:nvSpPr>
        <p:spPr>
          <a:xfrm>
            <a:off x="395280" y="3716280"/>
            <a:ext cx="8064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宋体"/>
              </a:rPr>
              <a:t>一次又一次的脱鞋绾裤啊，你体会到了什么？</a:t>
            </a: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组合 40980"/>
          <p:cNvGrpSpPr/>
          <p:nvPr/>
        </p:nvGrpSpPr>
        <p:grpSpPr>
          <a:xfrm>
            <a:off x="0" y="836640"/>
            <a:ext cx="9144000" cy="3528720"/>
            <a:chOff x="0" y="836640"/>
            <a:chExt cx="9144000" cy="3528720"/>
          </a:xfrm>
        </p:grpSpPr>
        <p:pic>
          <p:nvPicPr>
            <p:cNvPr id="518" name="图片 40978" descr="87b18418cc8d46a64bedbcd7"/>
            <p:cNvPicPr/>
            <p:nvPr/>
          </p:nvPicPr>
          <p:blipFill>
            <a:blip r:embed="rId1"/>
            <a:stretch/>
          </p:blipFill>
          <p:spPr>
            <a:xfrm>
              <a:off x="0" y="836640"/>
              <a:ext cx="9144000" cy="268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9" name="矩形 40979"/>
            <p:cNvSpPr/>
            <p:nvPr/>
          </p:nvSpPr>
          <p:spPr>
            <a:xfrm>
              <a:off x="0" y="1242360"/>
              <a:ext cx="8791560" cy="31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1001"/>
                </a:spcBef>
                <a:buClr>
                  <a:srgbClr val="ccccff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山洪过后，人们出工、收工、赶集、访友，来来去去，必须脱鞋</a:t>
              </a:r>
              <a:r>
                <a:rPr b="1" lang="zh-CN" sz="4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绾</a:t>
              </a:r>
              <a:r>
                <a:rPr b="1" lang="zh-CN" sz="4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裤 。</a:t>
              </a: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0" name="文本框 40982"/>
          <p:cNvSpPr/>
          <p:nvPr/>
        </p:nvSpPr>
        <p:spPr>
          <a:xfrm>
            <a:off x="826920" y="5229360"/>
            <a:ext cx="763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1a19"/>
                </a:solidFill>
                <a:latin typeface="Arial"/>
                <a:ea typeface="宋体"/>
              </a:rPr>
              <a:t>不便、麻烦、甚至很辛苦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80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" dur="5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" dur="5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5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1" name="组合 41987"/>
          <p:cNvGrpSpPr/>
          <p:nvPr/>
        </p:nvGrpSpPr>
        <p:grpSpPr>
          <a:xfrm>
            <a:off x="0" y="692280"/>
            <a:ext cx="9144000" cy="5329080"/>
            <a:chOff x="0" y="692280"/>
            <a:chExt cx="9144000" cy="5329080"/>
          </a:xfrm>
        </p:grpSpPr>
        <p:pic>
          <p:nvPicPr>
            <p:cNvPr id="522" name="图片 41988" descr="75e293efa5a0496279f05568"/>
            <p:cNvPicPr/>
            <p:nvPr/>
          </p:nvPicPr>
          <p:blipFill>
            <a:blip r:embed="rId1"/>
            <a:stretch/>
          </p:blipFill>
          <p:spPr>
            <a:xfrm>
              <a:off x="0" y="692280"/>
              <a:ext cx="9144000" cy="532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3" name="Text Box 3"/>
            <p:cNvSpPr/>
            <p:nvPr/>
          </p:nvSpPr>
          <p:spPr>
            <a:xfrm>
              <a:off x="0" y="1557360"/>
              <a:ext cx="8209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zh-CN" sz="4400" spc="-1" strike="noStrike">
                  <a:solidFill>
                    <a:srgbClr val="001a19"/>
                  </a:solidFill>
                  <a:latin typeface="Arial"/>
                  <a:ea typeface="宋体"/>
                </a:rPr>
                <a:t>进入秋天，天气变凉，家乡的人们会根据水的深浅，从河的两岸找来一些</a:t>
              </a:r>
              <a:r>
                <a:rPr b="1" lang="zh-CN" sz="4400" spc="-1" strike="noStrike">
                  <a:solidFill>
                    <a:srgbClr val="006666"/>
                  </a:solidFill>
                  <a:latin typeface="Arial"/>
                  <a:ea typeface="宋体"/>
                </a:rPr>
                <a:t>平整方正</a:t>
              </a:r>
              <a:r>
                <a:rPr b="1" lang="zh-CN" sz="4400" spc="-1" strike="noStrike">
                  <a:solidFill>
                    <a:srgbClr val="001a19"/>
                  </a:solidFill>
                  <a:latin typeface="Arial"/>
                  <a:ea typeface="宋体"/>
                </a:rPr>
                <a:t>的石头，按照</a:t>
              </a:r>
              <a:r>
                <a:rPr b="1" lang="zh-CN" sz="4400" spc="-1" strike="noStrike">
                  <a:solidFill>
                    <a:srgbClr val="006666"/>
                  </a:solidFill>
                  <a:latin typeface="Arial"/>
                  <a:ea typeface="宋体"/>
                </a:rPr>
                <a:t>二尺左右</a:t>
              </a:r>
              <a:r>
                <a:rPr b="1" lang="zh-CN" sz="4400" spc="-1" strike="noStrike">
                  <a:solidFill>
                    <a:srgbClr val="001a19"/>
                  </a:solidFill>
                  <a:latin typeface="Arial"/>
                  <a:ea typeface="宋体"/>
                </a:rPr>
                <a:t>的间隔，在小溪里横着摆上一排，让人们从上面踏过，这就是</a:t>
              </a:r>
              <a:r>
                <a:rPr b="1" lang="zh-CN" sz="4400" spc="-1" strike="noStrike" u="sng">
                  <a:solidFill>
                    <a:srgbClr val="ff3300"/>
                  </a:solidFill>
                  <a:uFillTx/>
                  <a:latin typeface="Arial"/>
                  <a:ea typeface="宋体"/>
                </a:rPr>
                <a:t>搭石</a:t>
              </a:r>
              <a:r>
                <a:rPr b="1" lang="zh-CN" sz="4400" spc="-1" strike="noStrike">
                  <a:solidFill>
                    <a:srgbClr val="001a19"/>
                  </a:solidFill>
                  <a:latin typeface="Arial"/>
                  <a:ea typeface="宋体"/>
                </a:rPr>
                <a:t>。</a:t>
              </a: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blinds dir="vert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组合 62470"/>
          <p:cNvGrpSpPr/>
          <p:nvPr/>
        </p:nvGrpSpPr>
        <p:grpSpPr>
          <a:xfrm>
            <a:off x="179280" y="1413000"/>
            <a:ext cx="8317080" cy="4613040"/>
            <a:chOff x="179280" y="1413000"/>
            <a:chExt cx="8317080" cy="4613040"/>
          </a:xfrm>
        </p:grpSpPr>
        <p:pic>
          <p:nvPicPr>
            <p:cNvPr id="525" name="图片 62467" descr="2de9c7629eebe7fbe6113a4b"/>
            <p:cNvPicPr/>
            <p:nvPr/>
          </p:nvPicPr>
          <p:blipFill>
            <a:blip r:embed="rId1"/>
            <a:stretch/>
          </p:blipFill>
          <p:spPr>
            <a:xfrm>
              <a:off x="179280" y="1413000"/>
              <a:ext cx="8317080" cy="439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文本框 62468"/>
            <p:cNvSpPr/>
            <p:nvPr/>
          </p:nvSpPr>
          <p:spPr>
            <a:xfrm>
              <a:off x="1006200" y="3357720"/>
              <a:ext cx="4824720" cy="266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1a19"/>
                  </a:solidFill>
                  <a:latin typeface="Arial"/>
                  <a:ea typeface="宋体"/>
                </a:rPr>
                <a:t>“</a:t>
              </a:r>
              <a:r>
                <a:rPr b="1" lang="zh-CN" sz="4800" spc="-1" strike="noStrike">
                  <a:solidFill>
                    <a:srgbClr val="001a19"/>
                  </a:solidFill>
                  <a:latin typeface="Arial"/>
                  <a:ea typeface="宋体"/>
                </a:rPr>
                <a:t>搭石”给你留下了怎样的印象</a:t>
              </a:r>
              <a:r>
                <a:rPr b="1" lang="en-US" sz="4800" spc="-1" strike="noStrike">
                  <a:solidFill>
                    <a:srgbClr val="001a19"/>
                  </a:solidFill>
                  <a:latin typeface="Arial"/>
                </a:rPr>
                <a:t>?</a:t>
              </a:r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文本框 62469"/>
            <p:cNvSpPr/>
            <p:nvPr/>
          </p:nvSpPr>
          <p:spPr>
            <a:xfrm>
              <a:off x="358560" y="1629000"/>
              <a:ext cx="33116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交流：</a:t>
              </a:r>
              <a:endParaRPr b="1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Text Box 3"/>
          <p:cNvSpPr/>
          <p:nvPr/>
        </p:nvSpPr>
        <p:spPr>
          <a:xfrm>
            <a:off x="611280" y="2205000"/>
            <a:ext cx="828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搭石，构成了家乡的</a:t>
            </a:r>
            <a:r>
              <a:rPr b="1" lang="zh-CN" sz="4400" spc="-1" strike="noStrike">
                <a:solidFill>
                  <a:srgbClr val="ff00ff"/>
                </a:solidFill>
                <a:latin typeface="Arial"/>
                <a:ea typeface="宋体"/>
              </a:rPr>
              <a:t>一道风景。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4"/>
          <p:cNvSpPr/>
          <p:nvPr/>
        </p:nvSpPr>
        <p:spPr>
          <a:xfrm>
            <a:off x="826920" y="2349360"/>
            <a:ext cx="7921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5" descr="4B314765285"/>
          <p:cNvPicPr/>
          <p:nvPr/>
        </p:nvPicPr>
        <p:blipFill>
          <a:blip r:embed="rId1"/>
          <a:stretch/>
        </p:blipFill>
        <p:spPr>
          <a:xfrm>
            <a:off x="5364000" y="5734080"/>
            <a:ext cx="2665440" cy="5652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1" name="组合 45067"/>
          <p:cNvGrpSpPr/>
          <p:nvPr/>
        </p:nvGrpSpPr>
        <p:grpSpPr>
          <a:xfrm>
            <a:off x="179280" y="1484280"/>
            <a:ext cx="8964720" cy="3808440"/>
            <a:chOff x="179280" y="1484280"/>
            <a:chExt cx="8964720" cy="3808440"/>
          </a:xfrm>
        </p:grpSpPr>
        <p:pic>
          <p:nvPicPr>
            <p:cNvPr id="532" name="图片 45065" descr="15e96d083fedb4656a60fbac"/>
            <p:cNvPicPr/>
            <p:nvPr/>
          </p:nvPicPr>
          <p:blipFill>
            <a:blip r:embed="rId1"/>
            <a:stretch/>
          </p:blipFill>
          <p:spPr>
            <a:xfrm>
              <a:off x="179280" y="1484280"/>
              <a:ext cx="8964720" cy="380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3" name="文本框 45066"/>
            <p:cNvSpPr/>
            <p:nvPr/>
          </p:nvSpPr>
          <p:spPr>
            <a:xfrm>
              <a:off x="863640" y="1987560"/>
              <a:ext cx="7632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1a19"/>
                  </a:solidFill>
                  <a:latin typeface="Arial"/>
                  <a:ea typeface="宋体"/>
                </a:rPr>
                <a:t>默读</a:t>
              </a:r>
              <a:r>
                <a:rPr b="1" lang="en-US" sz="4400" spc="-1" strike="noStrike">
                  <a:solidFill>
                    <a:srgbClr val="001a19"/>
                  </a:solidFill>
                  <a:latin typeface="Arial"/>
                </a:rPr>
                <a:t>2-4</a:t>
              </a:r>
              <a:r>
                <a:rPr b="1" lang="zh-CN" sz="4400" spc="-1" strike="noStrike">
                  <a:solidFill>
                    <a:srgbClr val="001a19"/>
                  </a:solidFill>
                  <a:latin typeface="Arial"/>
                  <a:ea typeface="宋体"/>
                </a:rPr>
                <a:t>自然段，用波浪线划出家乡的人们走搭石的相关语句，再想一想那是一幅怎样的画面。</a:t>
              </a: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2T11:20:17Z</dcterms:created>
  <dc:creator>user</dc:creator>
  <dc:description/>
  <dc:language>en-US</dc:language>
  <cp:lastModifiedBy>万润仪器贸易公司</cp:lastModifiedBy>
  <dcterms:modified xsi:type="dcterms:W3CDTF">2020-08-24T06:32:44Z</dcterms:modified>
  <cp:revision>86</cp:revision>
  <dc:subject/>
  <dc:title>搭石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